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32.xml" ContentType="application/vnd.openxmlformats-officedocument.theme+xml"/>
  <Override PartName="/ppt/theme/theme44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18.png" ContentType="image/png"/>
  <Override PartName="/ppt/media/image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</p:sldMasterIdLst>
  <p:sldIdLst>
    <p:sldId id="256" r:id="rId46"/>
    <p:sldId id="257" r:id="rId47"/>
    <p:sldId id="258" r:id="rId48"/>
    <p:sldId id="259" r:id="rId49"/>
    <p:sldId id="260" r:id="rId50"/>
    <p:sldId id="261" r:id="rId51"/>
    <p:sldId id="262" r:id="rId52"/>
    <p:sldId id="263" r:id="rId53"/>
    <p:sldId id="264" r:id="rId54"/>
    <p:sldId id="265" r:id="rId55"/>
    <p:sldId id="266" r:id="rId56"/>
    <p:sldId id="267" r:id="rId57"/>
    <p:sldId id="268" r:id="rId58"/>
    <p:sldId id="269" r:id="rId59"/>
    <p:sldId id="270" r:id="rId60"/>
    <p:sldId id="271" r:id="rId61"/>
    <p:sldId id="272" r:id="rId62"/>
    <p:sldId id="273" r:id="rId63"/>
    <p:sldId id="274" r:id="rId64"/>
    <p:sldId id="275" r:id="rId65"/>
    <p:sldId id="276" r:id="rId66"/>
    <p:sldId id="277" r:id="rId67"/>
    <p:sldId id="278" r:id="rId68"/>
    <p:sldId id="279" r:id="rId69"/>
    <p:sldId id="280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" Target="slides/slide1.xml"/><Relationship Id="rId47" Type="http://schemas.openxmlformats.org/officeDocument/2006/relationships/slide" Target="slides/slide2.xml"/><Relationship Id="rId48" Type="http://schemas.openxmlformats.org/officeDocument/2006/relationships/slide" Target="slides/slide3.xml"/><Relationship Id="rId49" Type="http://schemas.openxmlformats.org/officeDocument/2006/relationships/slide" Target="slides/slide4.xml"/><Relationship Id="rId50" Type="http://schemas.openxmlformats.org/officeDocument/2006/relationships/slide" Target="slides/slide5.xml"/><Relationship Id="rId51" Type="http://schemas.openxmlformats.org/officeDocument/2006/relationships/slide" Target="slides/slide6.xml"/><Relationship Id="rId52" Type="http://schemas.openxmlformats.org/officeDocument/2006/relationships/slide" Target="slides/slide7.xml"/><Relationship Id="rId53" Type="http://schemas.openxmlformats.org/officeDocument/2006/relationships/slide" Target="slides/slide8.xml"/><Relationship Id="rId54" Type="http://schemas.openxmlformats.org/officeDocument/2006/relationships/slide" Target="slides/slide9.xml"/><Relationship Id="rId55" Type="http://schemas.openxmlformats.org/officeDocument/2006/relationships/slide" Target="slides/slide10.xml"/><Relationship Id="rId56" Type="http://schemas.openxmlformats.org/officeDocument/2006/relationships/slide" Target="slides/slide11.xml"/><Relationship Id="rId57" Type="http://schemas.openxmlformats.org/officeDocument/2006/relationships/slide" Target="slides/slide12.xml"/><Relationship Id="rId58" Type="http://schemas.openxmlformats.org/officeDocument/2006/relationships/slide" Target="slides/slide13.xml"/><Relationship Id="rId59" Type="http://schemas.openxmlformats.org/officeDocument/2006/relationships/slide" Target="slides/slide14.xml"/><Relationship Id="rId60" Type="http://schemas.openxmlformats.org/officeDocument/2006/relationships/slide" Target="slides/slide15.xml"/><Relationship Id="rId61" Type="http://schemas.openxmlformats.org/officeDocument/2006/relationships/slide" Target="slides/slide16.xml"/><Relationship Id="rId62" Type="http://schemas.openxmlformats.org/officeDocument/2006/relationships/slide" Target="slides/slide17.xml"/><Relationship Id="rId63" Type="http://schemas.openxmlformats.org/officeDocument/2006/relationships/slide" Target="slides/slide18.xml"/><Relationship Id="rId64" Type="http://schemas.openxmlformats.org/officeDocument/2006/relationships/slide" Target="slides/slide19.xml"/><Relationship Id="rId65" Type="http://schemas.openxmlformats.org/officeDocument/2006/relationships/slide" Target="slides/slide20.xml"/><Relationship Id="rId66" Type="http://schemas.openxmlformats.org/officeDocument/2006/relationships/slide" Target="slides/slide21.xml"/><Relationship Id="rId67" Type="http://schemas.openxmlformats.org/officeDocument/2006/relationships/slide" Target="slides/slide22.xml"/><Relationship Id="rId68" Type="http://schemas.openxmlformats.org/officeDocument/2006/relationships/slide" Target="slides/slide23.xml"/><Relationship Id="rId69" Type="http://schemas.openxmlformats.org/officeDocument/2006/relationships/slide" Target="slides/slide24.xml"/><Relationship Id="rId70" Type="http://schemas.openxmlformats.org/officeDocument/2006/relationships/slide" Target="slides/slide25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19AE-7064-48E0-94D9-6AE3CBDA9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ABA7-077E-457B-A17A-3998C19D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3BBF85-E7E7-4771-9CE8-0FDBA0D7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9B6EE-F00B-473C-8EA2-D9CD1828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9C6F1-713D-466C-AB8E-FFE7930A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930C0-F2BF-4EF3-BD21-15B61EFD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1BF48-7980-4D46-A6D2-46A21BE4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BB339-1739-47FE-9D15-1B9B2DF5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42CB0-22B9-4DA0-B72F-A9FC57D2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5E1B6-662E-4F06-BC20-DE68E9226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2445B-50A6-4337-A76B-277DFC44B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869D5-EE3B-41A4-AF53-AF24B7C36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9BC7-0FAF-443C-8F73-1F00BAA5F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6F99E-6D57-4602-BE89-2D3F5017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05ED3-ACA6-4CB3-8631-DC7BA260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3CDB7-8790-4BAD-B239-B561A5BD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514EE-3B95-4A55-82F0-427A5F9B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6AC16-0DE2-4345-B214-C1D8C1B1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36BC4-3A3B-4B53-85EF-BB8AAF9BE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D4CA4-F5C3-478B-8AE8-0A04E93B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F16A8-53A3-4EE2-9BEF-8140C384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5A7D8-5F9D-4DDD-B971-EDF480EC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705B8-021B-4B07-A4BF-27C83ED1E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880A-A189-46DB-98F2-4133D0403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53D46-DFEF-4E71-B1BC-D59A58F05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7175-EDE2-4090-8E0A-16654622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E43964-5342-4A25-9F85-75C28091C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670C6-CC00-49D6-AA46-00F39DFD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0DBE5-BE03-4C75-83AD-62F3A5D1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E2865-D320-41A4-A46B-16351821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DA3EB-37E9-43CC-B003-803F9A94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EF371-ECE9-4BE2-B727-96C93A9A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909CC-D402-4611-AFCF-1A7D1BFC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669F01-BD42-413A-83C7-DF7A63A3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D56BC4-6F1A-4DC0-B731-99221BDD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FDDD-0AF7-40F7-AADA-2F2E5721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D9CB0-C876-4124-9793-561F1C1E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88971-B051-405C-902E-717488FB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DB289-2057-409F-90EE-4B04A1A9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A8624-C82B-45E2-AD00-865F605A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08436-5B4B-4137-82F9-0DF71948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57614-EB0B-4AE6-A7B0-833B7B82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8F59A-9C6E-484D-B376-87BA4368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D8042-6153-4405-8884-E0C2436A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F3D11-D687-4709-BC26-9E44EDA5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0514A-C5A1-4E26-BE09-5247205B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A5A9-C650-4D0D-B88A-AB46300B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AC080-A11F-4C3C-A226-3AAD98E7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7877F-4825-4BCE-A7E0-80AEFE10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68E7E-86D9-4B9C-BEE5-6A741DED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3764B-84E6-4B9E-98B8-BD3DB361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8BB04F-C5BA-40E1-8D51-E9BE00ACD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FDD2-7D65-4F24-87E4-C44D8E12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C48A-F6FC-404E-8703-00D5F85A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7A4F8-AD10-41A3-BD1B-05508D4A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6BED-DE87-48FC-863C-F11956E7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C3D2-4222-4C30-94D5-AC38984E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0C0ADD-10F5-43FA-BDCB-F96544D5CF7D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E312BF-C2C4-4746-B1AE-C06FBD15ABEB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0130087-DDAF-41FC-949B-8FBBAE579FB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D7024D4-1477-4CFF-AD2B-01C1D00CDFD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629D57-CBBD-48A6-BDEE-BEC6137F7FD1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4ED3E5-C103-49EE-AEF2-C36FEA0543C0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60082F-BEF9-41E1-95EA-9FDC77EC85BE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0460CE-DCC0-427F-9A01-311625C61E73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C6E5886-81F7-49D1-A66A-4870442CF7B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E3A7-C57C-4892-B2CE-B8434A6A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9077C12-D133-4598-B358-F04FA5E52AA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B6A57E-996A-4C5B-BDFA-B9745513FD92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BC686B7-666F-4834-9675-629549BD0DE6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880376-ABBB-4C09-AF3E-79CDCD53B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1D3BA55-E419-465E-BA05-DF691841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D05526-B02D-4B41-A6C0-4A2A0CA7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E33392-B258-4955-A4AC-CA2177FF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D9BEBC-161D-40C8-BBB2-9D466435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21B917-CABC-4198-B764-CD811C33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1EB221-FE46-45AE-9EAA-F7D53187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8062-344F-4A2A-A029-5013933F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823D03-6F08-4457-88AB-7CE57678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4A15724-9FF4-4742-97D4-6B5753F6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2E58F1-E548-4C0A-8670-FF78EDB4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C7BDB7-6B4F-4C6E-ABE8-861AC320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B33BFB-0FC2-4E2A-8B82-1921876D9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0AF7201-1448-4845-BB0B-DD0BEEA7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F579AF6-C847-4568-88A1-DEC03F8B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06B147F-5E2F-403A-9AE0-887AAEC8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332FCF1-AE89-4871-8FEC-362E5FD5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E002107-6623-4E9E-A5C9-2E76EECD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724B-2643-4843-982C-959A05F1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A106CC5-946F-46A8-BA74-DD2C9730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9016F3B-F8A4-44C0-81AC-E83FD464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D230097-46C3-4686-AB66-52AFBEAD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E712770-31CD-46B7-875D-D5C8656D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21A3CF0-D06E-4E46-9A53-9A837499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79F3609-C60F-4382-A896-6476E32F9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A1A0ACF-E1EE-4DBB-813D-FB7F7E24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697C-9DA5-4CB8-9DA5-3C3EBE7C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5FF5-1A77-4B74-BAFE-FA349F8C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3E2A-0674-4F7A-A5E8-A7A25E01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A166F-2598-49C9-98F5-0F6F27C34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41573-A089-400B-90C6-293BF973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F053A-248A-4678-9415-D4D75483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D1A8-3400-4CFF-AE9E-3EAFAB2E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DF4A3-4687-4F7E-BE6D-897873A4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83A2465-1EB1-48D4-AA28-96021409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5B633-0FFC-4386-81C0-DE79B615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8A62289-7934-414F-A6E0-0D0FA6D4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DC10C97-8A87-4658-8954-47B7801B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0201768-62D4-48D1-B002-AD729A60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FD5A943-6FDE-438C-8A88-8B306CBD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9717D86-1CB6-4242-80B3-B1725CCA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72BFB68-7A1F-4686-B64B-98926CA4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7E739B4-7311-4646-BB97-46D25887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60706E1-450B-4E93-ABDF-6302DE31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F2BBAF6-A939-4E23-9533-30C1FE7C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FD97ABC-B5BB-4D0A-9A53-92D7627C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10A71-794C-4A32-926B-E21E9A6C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573E323-8754-4473-BB3B-8A635CA6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1E45F87-FB0E-419B-9F65-EC7C73CFC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1533355-CF5B-40E1-B381-74707D10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9413092-1C27-4D04-A56C-6C968AE6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FB6B8A2-4322-4CEB-B565-D1225810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B7184F4-2C51-42ED-98D5-632F3E75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B96A7A9-6A92-4F58-BFA0-52D0C438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811D920-7C6C-4268-A7AF-9EA6202B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0F621CB-13FA-4E24-9F83-58D7068A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68D6CED-9AB3-4CC8-B9E3-65D86759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32A2F-619D-4961-894E-012B0F90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E251ABC-93AD-413B-88E6-F1F28EB1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FD48104-4F19-4162-94C2-ABD7893BE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510BD7E-96CB-490A-87CB-72A741571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9035798-BECE-4CD8-9632-1197766D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A6D91B1-1CFD-4D08-BD68-0BC2D3CA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3D3224A-8EFC-4A22-AB37-E44C362C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3188C59-98CA-45C0-BAA5-EE792DF5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B3CA065-C16B-4136-96F4-4DDE80EB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CF10220-6C92-4712-93C3-6AB82C0C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7D6760F-17C2-4A19-8E63-87CEDDB3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65532-3C99-4D70-897E-0F41B961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ADABD59-018D-4CBB-A04E-4094C76F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8BDB8F9-1718-4D6C-8D6B-0E8EABEA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3006714-0E54-4EC6-B358-BBC16762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F49B90A-3364-4E5E-9C54-F5743D3E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E289C13-3D60-4A2E-9196-7A994B1F3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2ECD92C-1309-4B5C-803B-5504DDE9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46595B6-9378-4F60-80BE-A6EBB8ED4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F397C43-E4E0-49BB-BB0A-91DCD821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8F6FDE8-C20B-4EC6-94CA-F5D4E3A6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722FFD8-05B0-4DB3-BD87-F6640BAD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DAF1B-A499-4816-AD33-079242D9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785EE82-5AB9-4FFA-A34F-7087F627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16A2E7C-2165-4688-8B07-CBA010F4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829B9AC-BD02-42BF-B98F-DD52315B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E9D3CCF-9276-4ECA-A59B-DB334356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2B82EAF-734E-4559-993E-220C9F03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859348D-FF78-4A24-8521-41231555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79190FC-3426-43E0-AC88-6A48FC1C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687B3-C53C-4056-AC8D-B8A5004D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D935C-1F91-4B9A-8ABA-AC28AEFF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A3BBF-56E9-44AA-8945-D903BFD85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A5833E5-4865-4707-AB86-DE61F556C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E608E69-B2B4-4DD6-A7E1-9A3255CA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18F7EDC-4BD9-48FD-AB23-6E6EDAA6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8F72053-26FD-418F-A856-6EE84706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7FE837D-D7B4-4AE4-8B1A-5BBF5D6B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5EDB568-4CAC-47DE-AAF8-95AC4F0C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CFE463A-B35E-4CD6-88F3-752E2779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B11EFE1-E324-4B92-B969-6CF9262E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7365B1B-6BB3-4027-BC2A-29685AE9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8C49DE0-5E54-43D1-9F73-B76FE3E2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6D6DB41-789A-4C75-8468-3F97C624A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38AD6EA-9A35-44EB-9552-23ABED5F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0D36-388A-432B-A3E4-5C275E1F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A16C291-AD14-4B18-B34A-E22E677DE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1CDB44F-18DD-48FF-A823-2103A556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4E9EC4D-0A22-4E0F-8BCF-A79A4B6D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C93D61A5-46CE-49E2-AC35-61BF6602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48C06D1-1A2D-4252-BDB3-410568B6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55933B4-14C3-4268-8A2E-441FDADE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570A25F-1B6D-4203-A014-63AC40AB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0E04C97-2C5E-4E18-965B-B39A3F33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B8E16616-D5B2-48D8-A5D6-10A4DC02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3FDA4E3-F13C-4342-8FB2-5E581CD5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38127A1-D8C2-4B77-84DF-5D88901A3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F31D96F-92C9-46AB-8882-DF764D7B5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87D9-0B3E-4F04-BA9E-95CF66C83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A73E-ACCA-4009-AA15-DF907AE1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0A622-45FD-4F6B-92DC-20B0FEF0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238B3-2533-4F7E-847B-608291F8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DB423-BEF3-45A2-92A5-F3051599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EE7D5-493A-432E-B9C6-F7822865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429AC-2230-46E3-BF4E-3D8CF471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2AD80-286B-410F-9D36-D9094E3C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04D22-A63C-4944-B625-E58322EC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C991-6FE3-4F7A-BE80-BEA3D251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70CB3-0CB3-480F-859A-285CFF6D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D9092-BC8A-4471-8560-F7A69436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7A26F-405A-4B57-B967-E6EFBF97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E2770-47C8-4CCD-BDDF-01D7B9247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E7D9C-0AF7-4034-9568-01979893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1892D-C098-4924-9B01-5D0D06AA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1F3BE-00D8-4C35-8FB6-8AC1D8BE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7594A-2B1A-480D-B1E6-798F7410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5EAFE-A4E3-4C0D-8163-C7347EB6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A62B9-D9F7-4B83-82DE-1C645DB5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62B5-6276-4833-BACC-E9AA4CA3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6D438-4916-4ADD-9A1B-4F2B082C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CE953-A557-4476-B2FB-972B5147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79950-E78E-4AA3-9F67-496999F0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3F6F5-781F-4E0C-9CA7-228C40ED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44063-A588-496B-A2CF-9960D134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093E8-1AF1-4199-A4D6-D9F18391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2585F-B741-4197-B47C-EA02B61F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C9B0B-605A-4C81-A01F-A80EC7695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528D6-B561-4A20-ACFF-F551B897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2332E-DC43-4774-A614-2E65C5A0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9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9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1FA0-43DF-4300-89E6-82D6D3701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2346120"/>
            <a:ext cx="7772400" cy="115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ABEF-7B9F-4DF9-93E4-3E2FBB2E7364}" type="slidenum">
              <a:rPr b="0" lang="en-US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457200" y="148392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title"/>
          </p:nvPr>
        </p:nvSpPr>
        <p:spPr>
          <a:xfrm>
            <a:off x="469440" y="404640"/>
            <a:ext cx="828036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title"/>
          </p:nvPr>
        </p:nvSpPr>
        <p:spPr>
          <a:xfrm>
            <a:off x="828720" y="429228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00000" y="275760"/>
            <a:ext cx="778824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774440"/>
            <a:ext cx="8229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7597800" y="4419720"/>
            <a:ext cx="1484280" cy="24382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155520" y="-141120"/>
            <a:ext cx="60660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楷体"/>
              </a:rPr>
              <a:t>未与群芳同温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楷体"/>
              </a:rPr>
              <a:t>却在枝头独欢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77724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4360" y="3068280"/>
            <a:ext cx="77724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图片 8" descr=""/>
          <p:cNvPicPr/>
          <p:nvPr/>
        </p:nvPicPr>
        <p:blipFill>
          <a:blip r:embed="rId3"/>
          <a:stretch/>
        </p:blipFill>
        <p:spPr>
          <a:xfrm>
            <a:off x="0" y="1009800"/>
            <a:ext cx="9144000" cy="347400"/>
          </a:xfrm>
          <a:prstGeom prst="rect">
            <a:avLst/>
          </a:prstGeom>
          <a:ln w="0">
            <a:noFill/>
          </a:ln>
        </p:spPr>
      </p:pic>
      <p:sp>
        <p:nvSpPr>
          <p:cNvPr id="6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图片 8" descr=""/>
          <p:cNvPicPr/>
          <p:nvPr/>
        </p:nvPicPr>
        <p:blipFill>
          <a:blip r:embed="rId3"/>
          <a:stretch/>
        </p:blipFill>
        <p:spPr>
          <a:xfrm>
            <a:off x="0" y="1009800"/>
            <a:ext cx="9144000" cy="3474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图片 8" descr=""/>
          <p:cNvPicPr/>
          <p:nvPr/>
        </p:nvPicPr>
        <p:blipFill>
          <a:blip r:embed="rId3"/>
          <a:stretch/>
        </p:blipFill>
        <p:spPr>
          <a:xfrm>
            <a:off x="0" y="1009800"/>
            <a:ext cx="9144000" cy="347400"/>
          </a:xfrm>
          <a:prstGeom prst="rect">
            <a:avLst/>
          </a:prstGeom>
          <a:ln w="0">
            <a:noFill/>
          </a:ln>
        </p:spPr>
      </p:pic>
      <p:sp>
        <p:nvSpPr>
          <p:cNvPr id="7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8640"/>
            <a:ext cx="77724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图片 8" descr=""/>
          <p:cNvPicPr/>
          <p:nvPr/>
        </p:nvPicPr>
        <p:blipFill>
          <a:blip r:embed="rId3"/>
          <a:stretch/>
        </p:blipFill>
        <p:spPr>
          <a:xfrm>
            <a:off x="0" y="1009800"/>
            <a:ext cx="9144000" cy="347400"/>
          </a:xfrm>
          <a:prstGeom prst="rect">
            <a:avLst/>
          </a:prstGeom>
          <a:ln w="0">
            <a:noFill/>
          </a:ln>
        </p:spPr>
      </p:pic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98C8-5B73-410D-9C03-801CDAA8112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A238-2CDC-47B4-91BB-F6BE5AAA3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Tahom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261000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40404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3d18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543d18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ec8ce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3d18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543d18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7ec8ce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3d18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543d18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7ec8ce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3d1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543d18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7ec8ce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3d18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543d18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7ec8ce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3d18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543d18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3d18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543d18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3d18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543d1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5d093"/>
                </a:solidFill>
                <a:latin typeface="Verdana"/>
                <a:ea typeface="Guli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5d093"/>
                </a:solidFill>
                <a:latin typeface="Verdana"/>
                <a:ea typeface="Gulim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543d18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6580-C45F-4F21-8150-2641945CC52D}" type="slidenum">
              <a:rPr b="1" lang="en-US" sz="1200" spc="-1" strike="noStrike">
                <a:solidFill>
                  <a:srgbClr val="543d18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title"/>
          </p:nvPr>
        </p:nvSpPr>
        <p:spPr>
          <a:xfrm>
            <a:off x="685800" y="2247840"/>
            <a:ext cx="64008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d18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43d1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ftr" idx="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1C1DD-6C30-4083-A95E-74DBBD2AFC8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404720" y="2494080"/>
            <a:ext cx="64069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1AB6-7A0B-4058-A2E8-BBB107EEC2F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9A59-59AA-412D-9AB6-F05D0510F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4360" y="219708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84360" y="219708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84360" y="2197080"/>
            <a:ext cx="77724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 type="ftr" idx="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01D9-FF82-4EF9-A00F-A9CAD9D4F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-360" y="3716280"/>
            <a:ext cx="666108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 type="ftr" idx="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10FE-2FED-4D6B-9F8F-BB4D9F942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3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734e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 type="ftr" idx="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 type="sldNum" idx="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0483-DAD5-4A18-9919-BD47C58CD3E9}" type="slidenum"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1117080" y="371520"/>
            <a:ext cx="51800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21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 type="dt" idx="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 type="ftr" idx="5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 type="sldNum" idx="5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5058-0ADB-49DE-992E-96B171C1F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"/>
          <p:cNvSpPr/>
          <p:nvPr/>
        </p:nvSpPr>
        <p:spPr>
          <a:xfrm>
            <a:off x="0" y="304920"/>
            <a:ext cx="9144000" cy="99036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e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 rot="10800000">
            <a:off x="0" y="1447920"/>
            <a:ext cx="1905120" cy="320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510" y="614"/>
                  <a:pt x="3420" y="5080"/>
                  <a:pt x="3420" y="10800"/>
                </a:cubicBezTo>
                <a:cubicBezTo>
                  <a:pt x="3420" y="16520"/>
                  <a:pt x="12510" y="2098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2ff8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 rot="10800000">
            <a:off x="0" y="685800"/>
            <a:ext cx="1676520" cy="541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29" y="656"/>
                  <a:pt x="3658" y="5080"/>
                  <a:pt x="3658" y="10800"/>
                </a:cubicBezTo>
                <a:cubicBezTo>
                  <a:pt x="3658" y="16520"/>
                  <a:pt x="12629" y="209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 rot="10800000">
            <a:off x="0" y="1295280"/>
            <a:ext cx="1219320" cy="373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769" y="706"/>
                  <a:pt x="3937" y="5080"/>
                  <a:pt x="3937" y="10800"/>
                </a:cubicBezTo>
                <a:cubicBezTo>
                  <a:pt x="3937" y="16520"/>
                  <a:pt x="12769" y="2089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1752480" y="1600200"/>
            <a:ext cx="7020000" cy="4495680"/>
          </a:xfrm>
          <a:prstGeom prst="flowChartAlternateProcess">
            <a:avLst/>
          </a:prstGeom>
          <a:solidFill>
            <a:srgbClr val="ffcc9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9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99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9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999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9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999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9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9999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ff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9999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9999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14136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F6F4-E8DA-4CFE-B89D-C93E0312F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"/>
          <p:cNvSpPr/>
          <p:nvPr/>
        </p:nvSpPr>
        <p:spPr>
          <a:xfrm>
            <a:off x="0" y="2590920"/>
            <a:ext cx="9144000" cy="121896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d9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 rot="10800000">
            <a:off x="0" y="1447920"/>
            <a:ext cx="1905120" cy="320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510" y="614"/>
                  <a:pt x="3420" y="5080"/>
                  <a:pt x="3420" y="10800"/>
                </a:cubicBezTo>
                <a:cubicBezTo>
                  <a:pt x="3420" y="16520"/>
                  <a:pt x="12510" y="2098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2ff8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 rot="10800000">
            <a:off x="0" y="685800"/>
            <a:ext cx="1676520" cy="541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29" y="656"/>
                  <a:pt x="3658" y="5080"/>
                  <a:pt x="3658" y="10800"/>
                </a:cubicBezTo>
                <a:cubicBezTo>
                  <a:pt x="3658" y="16520"/>
                  <a:pt x="12629" y="209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 rot="10800000">
            <a:off x="0" y="1295280"/>
            <a:ext cx="1219320" cy="373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769" y="706"/>
                  <a:pt x="3937" y="5080"/>
                  <a:pt x="3937" y="10800"/>
                </a:cubicBezTo>
                <a:cubicBezTo>
                  <a:pt x="3937" y="16520"/>
                  <a:pt x="12769" y="2089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 type="dt" idx="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 type="ftr" idx="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5"/>
          <p:cNvSpPr>
            <a:spLocks noGrp="1"/>
          </p:cNvSpPr>
          <p:nvPr>
            <p:ph type="sldNum" idx="5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CB17-2498-4709-BD67-72397DE7BFE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684360" y="4220640"/>
            <a:ext cx="77724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11448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457200" y="1267920"/>
            <a:ext cx="8229600" cy="48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0d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0d1d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b0d1d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b0d1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0d1d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b0d1d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b0d1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0d1d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b0d1d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b0d1d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0d1d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b0d1d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b0d1d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0d1d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b0d1d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0d1d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b0d1d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0d1d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b0d1d0"/>
              </a:solidFill>
              <a:latin typeface="Calibri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 type="dt" idx="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E1DA-AF7A-461A-8083-FE7B1BBCB8F0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 type="ftr" idx="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5"/>
          <p:cNvSpPr>
            <a:spLocks noGrp="1"/>
          </p:cNvSpPr>
          <p:nvPr>
            <p:ph type="sldNum" idx="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78FF-F675-40FC-B2F2-65DAEF0C4A6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66560" y="47448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1E57-C1FE-44A8-9E6C-E68BE6F0251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0320" y="2130120"/>
            <a:ext cx="777240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1C11-56C4-4EEE-B52B-5E6B5167A10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dt" idx="16"/>
          </p:nvPr>
        </p:nvSpPr>
        <p:spPr>
          <a:xfrm>
            <a:off x="45684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ftr" idx="17"/>
          </p:nvPr>
        </p:nvSpPr>
        <p:spPr>
          <a:xfrm>
            <a:off x="3124080" y="630396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Num" idx="18"/>
          </p:nvPr>
        </p:nvSpPr>
        <p:spPr>
          <a:xfrm>
            <a:off x="655272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A75E-CFD9-4225-BF6A-CA0B5CC1F62E}" type="slidenum">
              <a:rPr b="0" lang="en-US" sz="12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8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0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1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9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6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8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40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48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4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68360" y="11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99"/>
                </a:solidFill>
                <a:latin typeface="Arial"/>
                <a:ea typeface="宋体"/>
              </a:rPr>
              <a:t>儒家的经典书籍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541440" y="1269720"/>
            <a:ext cx="84232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四书五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四书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五经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2484360" y="2708280"/>
            <a:ext cx="637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论语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孟子  大学 中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2484360" y="4005360"/>
            <a:ext cx="597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经   尚书  </a:t>
            </a:r>
            <a:r>
              <a:rPr b="1" lang="zh-CN" sz="40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礼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经   春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1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17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" dur="2000"/>
                                        <p:tgtEl>
                                          <p:spTgt spid="17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1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（一）注意以下词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嘉 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弗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不知其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虽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至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弗学，不知其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是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然后知不足，教然后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知不足，然后能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知困，然后能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自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故曰：教学相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兑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》曰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学 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此之谓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901800" y="276120"/>
            <a:ext cx="778824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（一）注意以下词语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252000" y="1198080"/>
            <a:ext cx="843444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嘉 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弗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不知其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也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虽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至道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弗学，不知其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是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然后知不足，教然后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971640" y="1628640"/>
            <a:ext cx="715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虽：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虽然      </a:t>
            </a:r>
            <a:r>
              <a:rPr b="1" lang="zh-CN" sz="36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嘉：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好，美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肴：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用鱼肉做的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1044720" y="3357720"/>
            <a:ext cx="63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食：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吃，品尝</a:t>
            </a:r>
            <a:r>
              <a:rPr b="1" lang="zh-CN" sz="36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   旨：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甘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900000" y="4437000"/>
            <a:ext cx="77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至道：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最好的道理   </a:t>
            </a:r>
            <a:r>
              <a:rPr b="1" lang="zh-CN" sz="36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善：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好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612720" y="5518080"/>
            <a:ext cx="76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是故：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所以 </a:t>
            </a:r>
            <a:r>
              <a:rPr b="1" lang="zh-CN" sz="36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困：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不通，理解不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/>
          </p:nvPr>
        </p:nvSpPr>
        <p:spPr>
          <a:xfrm>
            <a:off x="323640" y="190080"/>
            <a:ext cx="856908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知不足，然后能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知困，然后能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自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故曰：教学相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兑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》曰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学 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此之谓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5581800" y="26028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自反：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自我反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5219640" y="69372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自强：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自我勉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4932360" y="1197000"/>
            <a:ext cx="188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长：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促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1089000" y="2286000"/>
            <a:ext cx="766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兑：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通“说”，指的是殷商时的贤相傅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命：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《尚书》中得一种文章体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学：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教   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学：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学习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539640" y="429264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其：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表示推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此</a:t>
            </a:r>
            <a:r>
              <a:rPr b="1" lang="en-US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之谓也”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是一种固定句式，通常翻译为“说的就是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吧。”说的就是这个道理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4"/>
          <p:cNvSpPr/>
          <p:nvPr/>
        </p:nvSpPr>
        <p:spPr>
          <a:xfrm>
            <a:off x="468360" y="765000"/>
            <a:ext cx="842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虽有嘉肴，弗食，不知其旨也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虽然有美味的肉食，不去品尝，就不知道其味道的甘美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虽我至道，弗学，不知其善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虽然有最好的道理，不去学习，就不知道它的好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故学然后知不足，教然后知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所以，学习之后才知道自己的不足，教人之后才知道自己也有不懂的地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Text Box 5"/>
          <p:cNvSpPr/>
          <p:nvPr/>
        </p:nvSpPr>
        <p:spPr>
          <a:xfrm>
            <a:off x="181080" y="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504d"/>
                </a:solidFill>
                <a:latin typeface="Arial"/>
                <a:ea typeface="楷体_GB2312"/>
              </a:rPr>
              <a:t>（二）参考译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7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7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Rectangle 4"/>
          <p:cNvSpPr/>
          <p:nvPr/>
        </p:nvSpPr>
        <p:spPr>
          <a:xfrm>
            <a:off x="395280" y="622440"/>
            <a:ext cx="828036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不足，然后能自反也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知道了自己的不足，然后就能自我反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知困，然后能自强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知道了自己不懂的地方，然后才能勉励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故曰：教学相长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所以“教”和“学”是相互促进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兑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曰：“学学半。 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尚书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兑命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说：“教人是学习的一半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其此之谓乎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这话说的就是这个道理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7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7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7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7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7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7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11448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b0d1d0"/>
              </a:solidFill>
              <a:latin typeface="Calibri"/>
            </a:endParaRPr>
          </a:p>
        </p:txBody>
      </p:sp>
      <p:sp>
        <p:nvSpPr>
          <p:cNvPr id="1775" name="Text Box 5"/>
          <p:cNvSpPr/>
          <p:nvPr/>
        </p:nvSpPr>
        <p:spPr>
          <a:xfrm>
            <a:off x="2856240" y="198900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504d"/>
                </a:solidFill>
                <a:latin typeface="Arial"/>
              </a:rPr>
              <a:t>四：合作探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56144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、文章开头写“虽有嘉肴”有何用？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"/>
          <p:cNvSpPr/>
          <p:nvPr/>
        </p:nvSpPr>
        <p:spPr>
          <a:xfrm>
            <a:off x="468360" y="981000"/>
            <a:ext cx="51588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虽有嘉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1187280" y="907920"/>
            <a:ext cx="3097440" cy="49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嘉肴弗食，不知其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1187280" y="1917720"/>
            <a:ext cx="309564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至道不学，不知其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4356000" y="1341360"/>
            <a:ext cx="128520" cy="601920"/>
          </a:xfrm>
          <a:custGeom>
            <a:avLst/>
            <a:gdLst>
              <a:gd name="textAreaLeft" fmla="*/ 0 w 128520"/>
              <a:gd name="textAreaRight" fmla="*/ 46440 w 128520"/>
              <a:gd name="textAreaTop" fmla="*/ 15480 h 601920"/>
              <a:gd name="textAreaBottom" fmla="*/ 586440 h 60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4572000" y="907920"/>
            <a:ext cx="3311640" cy="3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——知不足——自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4645080" y="1917720"/>
            <a:ext cx="331164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教——知困——自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8029440" y="1268280"/>
            <a:ext cx="128880" cy="601920"/>
          </a:xfrm>
          <a:custGeom>
            <a:avLst/>
            <a:gdLst>
              <a:gd name="textAreaLeft" fmla="*/ 0 w 128880"/>
              <a:gd name="textAreaRight" fmla="*/ 46440 w 128880"/>
              <a:gd name="textAreaTop" fmla="*/ 15480 h 601920"/>
              <a:gd name="textAreaBottom" fmla="*/ 586440 h 60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8317080" y="907920"/>
            <a:ext cx="73152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教学相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539640" y="2781360"/>
            <a:ext cx="799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从“佳肴”写起，是为了由“佳肴”、“至道”引出下文对教与学关系的论述，有“佳肴”、“至道”作类比，教与学的关系就浅显易懂了。这种说理的方法叫做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类比推理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Text Box 6"/>
          <p:cNvSpPr/>
          <p:nvPr/>
        </p:nvSpPr>
        <p:spPr>
          <a:xfrm>
            <a:off x="684360" y="139068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这篇短文告诉了我们一个什么样的道理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同意这个观点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 Box 7"/>
          <p:cNvSpPr/>
          <p:nvPr/>
        </p:nvSpPr>
        <p:spPr>
          <a:xfrm>
            <a:off x="612720" y="2708280"/>
            <a:ext cx="79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教学相长。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人学习之后就会知道不足，知道了不足之处，才能反省自己，提高自己；教人之后才能知道自己有理解不了的地方，这样才会自我勉励，不断提高。教和学是相互促进，相辅相成的。</a:t>
            </a:r>
            <a:r>
              <a:rPr b="1" lang="zh-CN" sz="3600" spc="-1" strike="noStrike">
                <a:solidFill>
                  <a:srgbClr val="00cc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类比推理</a:t>
            </a:r>
            <a:r>
              <a:rPr b="0" lang="zh-CN" sz="4000" spc="-1" strike="noStrike">
                <a:solidFill>
                  <a:srgbClr val="660066"/>
                </a:solidFill>
                <a:latin typeface="Arial"/>
              </a:rPr>
              <a:t>是根据两个或两类对象有部分属性相同，从而推出它们的其他属性也相同的推理。简称类推、类比。</a:t>
            </a:r>
            <a:endParaRPr b="0" lang="en-US" sz="4000" spc="-1" strike="noStrike">
              <a:solidFill>
                <a:srgbClr val="ff9999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9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Text Box 6"/>
          <p:cNvSpPr/>
          <p:nvPr/>
        </p:nvSpPr>
        <p:spPr>
          <a:xfrm>
            <a:off x="2268360" y="836640"/>
            <a:ext cx="453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五：拓展延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Rectangle 7"/>
          <p:cNvSpPr/>
          <p:nvPr/>
        </p:nvSpPr>
        <p:spPr>
          <a:xfrm>
            <a:off x="828720" y="220500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结合自身的学习经验，请谈谈“教学相长”的道理给了你怎样的启示？</a:t>
            </a:r>
            <a:r>
              <a:rPr b="1" lang="zh-CN" sz="4000" spc="-1" strike="noStrike">
                <a:solidFill>
                  <a:srgbClr val="c0504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WordArt 6"/>
          <p:cNvSpPr txBox="1"/>
          <p:nvPr/>
        </p:nvSpPr>
        <p:spPr>
          <a:xfrm>
            <a:off x="1619280" y="2278080"/>
            <a:ext cx="5761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★雅丽体"/>
              </a:rPr>
              <a:t>虽有嘉肴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★雅丽体"/>
              <a:ea typeface="★雅丽体"/>
            </a:endParaRPr>
          </a:p>
        </p:txBody>
      </p:sp>
      <p:sp>
        <p:nvSpPr>
          <p:cNvPr id="1731" name="Text Box 7"/>
          <p:cNvSpPr/>
          <p:nvPr/>
        </p:nvSpPr>
        <p:spPr>
          <a:xfrm>
            <a:off x="5113800" y="4581360"/>
            <a:ext cx="184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礼记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714240" y="5818320"/>
            <a:ext cx="46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Arial"/>
              </a:rPr>
              <a:t>by</a:t>
            </a:r>
            <a:r>
              <a:rPr b="0" lang="zh-CN" sz="1800" spc="-1" strike="noStrike">
                <a:solidFill>
                  <a:srgbClr val="660066"/>
                </a:solidFill>
                <a:latin typeface="Arial"/>
              </a:rPr>
              <a:t>李老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" dur="10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Text Box 4"/>
          <p:cNvSpPr/>
          <p:nvPr/>
        </p:nvSpPr>
        <p:spPr>
          <a:xfrm>
            <a:off x="900000" y="404640"/>
            <a:ext cx="741528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参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学是第一位的，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不学，则无法获得知识，也无法知道自己的不足，也就没有完善自己的机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教学相长”还意味着学习中的互动和交流。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有时候，可以采用教的方式学习。比如尝试把自己的理解讲给同桌听，看看他的反应。如果他能明白，可能表明你确实理解透彻了；如果他仍有疑惑，可能表明你懂得理解中存在漏洞或缺陷，这时就可以“知困”而“自强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Text Box 6"/>
          <p:cNvSpPr/>
          <p:nvPr/>
        </p:nvSpPr>
        <p:spPr>
          <a:xfrm>
            <a:off x="1981080" y="128520"/>
            <a:ext cx="49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六：语言特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Text Box 7"/>
          <p:cNvSpPr/>
          <p:nvPr/>
        </p:nvSpPr>
        <p:spPr>
          <a:xfrm>
            <a:off x="395280" y="155736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多使用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对偶句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读来朗朗上口，节奏感强。文章共五句，就有三句采用对偶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逻辑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密，条理分明。先是以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类比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强调学习，要实践，接下来指出“学”和“教”的作用（知不足和知困），再由此进一步讨论其效（自反和自强），最后得出结论。文气贯通，层层递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Text Box 4"/>
          <p:cNvSpPr/>
          <p:nvPr/>
        </p:nvSpPr>
        <p:spPr>
          <a:xfrm>
            <a:off x="3072240" y="5493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七：文章主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Text Box 7"/>
          <p:cNvSpPr/>
          <p:nvPr/>
        </p:nvSpPr>
        <p:spPr>
          <a:xfrm>
            <a:off x="758880" y="1917720"/>
            <a:ext cx="7558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章运用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类比的手法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引出要阐述的观点，指出教和学是相互促进，相辅相成的，即“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教学相长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，告诉了我们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实践出真知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道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TextBox 4"/>
          <p:cNvSpPr/>
          <p:nvPr/>
        </p:nvSpPr>
        <p:spPr>
          <a:xfrm>
            <a:off x="1619280" y="2276640"/>
            <a:ext cx="67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方正舒体"/>
                <a:ea typeface="楷体_GB2312"/>
              </a:rPr>
              <a:t>背诵全文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Impact"/>
              </a:rPr>
              <a:t>八：作业</a:t>
            </a:r>
            <a:endParaRPr b="1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、复习准备默写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66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、练习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0" name="矩形 4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6697440" cy="30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一：文学常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、《礼记》简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182520" y="838080"/>
            <a:ext cx="8856720" cy="52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《礼记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又名《小戴礼记》，儒家经典著作之一，是秦汉以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各种礼仪著作的选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相传为西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戴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编撰。汉代把孔子定的典籍称为“经”，他的弟子对“经”的解说是“传”或“记”，《礼记》因此而得名，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对“礼”的解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礼记》全书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记叙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形式写成，一些篇章具有相当高的文学价值。有的用短小的生动故事表明某一道理，有的气势磅礴、结构谨严，有的言简意赅、意味隽永，有的擅长心理描写和刻画，书中还收有大量富有哲理的格言、警句，精辟而深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Text Box 6"/>
          <p:cNvSpPr/>
          <p:nvPr/>
        </p:nvSpPr>
        <p:spPr>
          <a:xfrm>
            <a:off x="395280" y="333360"/>
            <a:ext cx="835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楷体_GB2312"/>
              </a:rPr>
              <a:t>、本文背景资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《虽有嘉肴》节选自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学记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礼记集解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，《学记》是中国教育史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第一篇系统性的教育学论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它对教育作用、教育目的、学校制度、教育内容、教学原则、教学方法以至师生关系、教师问题等方面，都做了比较系统而精辟的概括和理论的阐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0" lang="zh-CN" sz="7200" spc="-1" strike="noStrike">
                <a:solidFill>
                  <a:srgbClr val="0033cc"/>
                </a:solidFill>
                <a:latin typeface="Arial"/>
              </a:rPr>
              <a:t>二：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Text Box 6"/>
          <p:cNvSpPr/>
          <p:nvPr/>
        </p:nvSpPr>
        <p:spPr>
          <a:xfrm>
            <a:off x="539640" y="622440"/>
            <a:ext cx="675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（一）听朗读，读准字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Text Box 7"/>
          <p:cNvSpPr/>
          <p:nvPr/>
        </p:nvSpPr>
        <p:spPr>
          <a:xfrm>
            <a:off x="1656000" y="1989000"/>
            <a:ext cx="640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  ）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然后知困（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     ） 教学相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命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9dd9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学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半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1908000" y="1989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dd9"/>
                </a:solidFill>
                <a:latin typeface="Arial"/>
              </a:rPr>
              <a:t>y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1981080" y="30700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dd9"/>
                </a:solidFill>
                <a:latin typeface="Arial"/>
              </a:rPr>
              <a:t>qiǎ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1981080" y="41497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dd9"/>
                </a:solidFill>
                <a:latin typeface="Arial"/>
              </a:rPr>
              <a:t>yu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5724360" y="4222800"/>
            <a:ext cx="17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dd9"/>
                </a:solidFill>
                <a:latin typeface="Arial"/>
              </a:rPr>
              <a:t>xi</a:t>
            </a:r>
            <a:r>
              <a:rPr b="1" lang="zh-CN" sz="3600" spc="-1" strike="noStrike">
                <a:solidFill>
                  <a:srgbClr val="009dd9"/>
                </a:solidFill>
                <a:latin typeface="Arial"/>
              </a:rPr>
              <a:t>à</a:t>
            </a:r>
            <a:r>
              <a:rPr b="1" lang="en-US" sz="3600" spc="-1" strike="noStrike">
                <a:solidFill>
                  <a:srgbClr val="009dd9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6804000" y="206064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dd9"/>
                </a:solidFill>
                <a:latin typeface="Arial"/>
              </a:rPr>
              <a:t>ji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6156360" y="30700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dd9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9dd9"/>
                </a:solidFill>
                <a:latin typeface="Arial"/>
              </a:rPr>
              <a:t>zhǎ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7740720" y="42228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dd9"/>
                </a:solidFill>
                <a:latin typeface="Arial"/>
              </a:rPr>
              <a:t>xué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9" name="虽有佳肴" descr=""/>
          <p:cNvPicPr/>
          <p:nvPr/>
        </p:nvPicPr>
        <p:blipFill>
          <a:blip r:embed="rId2"/>
          <a:stretch/>
        </p:blipFill>
        <p:spPr>
          <a:xfrm>
            <a:off x="7021440" y="765000"/>
            <a:ext cx="862200" cy="5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749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749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37492" fill="hold"/>
                                        <p:tgtEl>
                                          <p:spTgt spid="17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Text Box 7"/>
          <p:cNvSpPr/>
          <p:nvPr/>
        </p:nvSpPr>
        <p:spPr>
          <a:xfrm>
            <a:off x="612720" y="765000"/>
            <a:ext cx="75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（二）注意停顿</a:t>
            </a: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（结合课后练习“一”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Text Box 8"/>
          <p:cNvSpPr/>
          <p:nvPr/>
        </p:nvSpPr>
        <p:spPr>
          <a:xfrm>
            <a:off x="971640" y="1844640"/>
            <a:ext cx="664200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虽有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嘉肴，弗食，不知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旨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虽有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至道，弗学，不知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善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故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然后知不足，教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然后知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知不足，然后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自反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知困，然后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自强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故曰：教学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长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兑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曰：“学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半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此之谓乎？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6372360" y="6021360"/>
            <a:ext cx="26636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微软雅黑"/>
              </a:rPr>
              <a:t>自由诵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3" name="虽有佳肴" descr=""/>
          <p:cNvPicPr/>
          <p:nvPr/>
        </p:nvPicPr>
        <p:blipFill>
          <a:blip r:embed="rId2"/>
          <a:stretch/>
        </p:blipFill>
        <p:spPr>
          <a:xfrm>
            <a:off x="8172360" y="907920"/>
            <a:ext cx="863640" cy="43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753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753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37492" fill="hold"/>
                                        <p:tgtEl>
                                          <p:spTgt spid="17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33cc"/>
                </a:solidFill>
                <a:latin typeface="Arial"/>
                <a:ea typeface="黑体"/>
              </a:rPr>
              <a:t>三：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09:13:48Z</dcterms:created>
  <dc:creator>【课件站www.kjzhan.com】~中小学ppt课件免费下载站~【课件站www.kjzhan.com】~中小学ppt课件免费下载站~【课件站www.kjzhan.com】~中小学ppt课件免费下载站~~中小学ppt课件免费下载站~【课件站www.kjzhan.com】~中小学ppt课件免费下载站~【课件站www.kjzhan.com】~中小学ppt课件免费下载站~【课件站www.kjzhan.com】~; 微软用户</dc:creator>
  <dc:description>【课件站www.kjzhan.com】~中小学ppt课件免费下载站~【课件站www.kjzhan.com】~中小学ppt课件免费下载站~【课件站www.kjzhan.com】~中小学ppt课件免费下载站~~中小学ppt课件免费下载站~【课件站www.kjzhan.com】~中小学ppt课件免费下载站~【课件站www.kjzhan.com】~中小学ppt课件免费下载站~【课件站www.kjzhan.com】~</dc:description>
  <cp:keywords>【课件站www.kjzhan.com】~中小学ppt课件免费下载站~【课件站www.kjzhan.com】~中小学ppt课件免费下载站~【课件站www.kjzhan.com】~中小学ppt课件免费下载站~~中小学ppt课件免费下载站~【课件站www.kjzhan.com】~中小学ppt课件免费下载站~【课件站www.kjzhan.com】~中小学ppt课件免费下载站~【课件站www.kjzhan.com】~</cp:keywords>
  <dc:language>en-US</dc:language>
  <cp:lastModifiedBy>999宝藏网</cp:lastModifiedBy>
  <dcterms:modified xsi:type="dcterms:W3CDTF">2013-10-29T13:09:10Z</dcterms:modified>
  <cp:revision>132</cp:revision>
  <dc:subject>【课件站www.kjzhan.com】~中小学ppt课件免费下载站~【课件站www.kjzhan.com】~中小学ppt课件免费下载站~【课件站www.kjzhan.com】~中小学ppt课件免费下载站~~中小学ppt课件免费下载站~【课件站www.kjzhan.com】~中小学ppt课件免费下载站~【课件站www.kjzhan.com】~中小学ppt课件免费下载站~【课件站www.kjzhan.com】~</dc:subject>
  <dc:title>【课件站www.kjzhan.com】~中小学ppt课件免费下载站~【课件站www.kjzhan.com】~中小学ppt课件免费下载站~【课件站www.kjzhan.com】~中小学ppt课件免费下载站~~中小学ppt课件免费下载站~【课件站www.kjzhan.com】~中小学ppt课件免费下载站~【课件站www.kjzhan.com】~中小学ppt课件免费下载站~【课件站www.kjzhan.com】~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